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D34B8E-B058-4251-99FB-F16C61401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0EC001-E76A-4E96-B526-9C32DB1C0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380361-E441-4FCE-82DA-DE5C8B5C2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B62249-E304-456C-935C-EF778CCC9A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1756C-F08C-4484-AE6C-B41807330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A3DF7-A6D4-4E4A-AE48-D889FB0D0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3E592-86AA-434D-8396-0E85A93D7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BDD49-9800-4452-BC9F-81A69998F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2A581-584F-4226-A488-7671287BE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CACDD-BB2A-4145-9247-9159FCA80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DDA06-CD26-444D-BB55-09EF3E46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44EF02-9E7D-493D-985C-EFE2C142D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88076-A944-4620-9778-83123CC5B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9A8CC-4D47-41A1-9E9F-4415BD26D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ED920-156D-4128-82E8-203A1F868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A923B-953D-4F4A-BB99-1FE71D4C4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6D14C-1E80-4B6F-93A9-F9561BEA6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E03681-210D-4F78-B258-8A38B62D6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39C7E7-2E33-4ABB-8F8C-AC2B213C2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2C105-5419-4D6B-9CFB-B6F502B3E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7E3A0A-6659-4029-A303-BC5DBC6C3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ACB05-56AC-4736-80EA-D26945381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96D73-81A4-4198-8BB7-F173447DD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B3659-41ED-43A2-9F5F-91EAD00F35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67B7-BCD1-4AC1-94C2-C29DDFCD9640}"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D72E-506F-4457-B49C-B8A024735208}"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0000" y="2373120"/>
            <a:ext cx="601956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ffffff"/>
                </a:solidFill>
                <a:latin typeface="Arial"/>
              </a:rPr>
              <a:t>Διαχείριση της σχολικής τάξης</a:t>
            </a:r>
            <a:endParaRPr b="0" lang="en-US" sz="4200" spc="-1" strike="noStrike">
              <a:solidFill>
                <a:srgbClr val="000000"/>
              </a:solidFill>
              <a:latin typeface="Arial"/>
            </a:endParaRPr>
          </a:p>
        </p:txBody>
      </p:sp>
      <p:sp>
        <p:nvSpPr>
          <p:cNvPr id="107" name="PlaceHolder 2"/>
          <p:cNvSpPr>
            <a:spLocks noGrp="1"/>
          </p:cNvSpPr>
          <p:nvPr>
            <p:ph type="subTitle"/>
          </p:nvPr>
        </p:nvSpPr>
        <p:spPr>
          <a:xfrm>
            <a:off x="2627280" y="4581360"/>
            <a:ext cx="6019920" cy="172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νόνες και καθορισμός σχέσεων</a:t>
            </a: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Λαζαρίδ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Ειδικοί κανόνες</a:t>
            </a:r>
            <a:r>
              <a:rPr b="1" i="1" lang="en-US"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π.χ. Πρέπει να σηκώνετε το χέρι σας όταν θέλετε να μιλήσετ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ατομική εργασία και δραστηριότητες που κατευθύνονται από το δάσκαλο.</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φισταμένη προσοχή κατά τη διάρκεια των παρουσιάσεω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μετοχή.</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μιλία με συμμαθητέ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ζήτηση βοήθει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όταν ολοκληρώνεται η ατομική μας εργασία.</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549360"/>
            <a:ext cx="8229600" cy="59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ην εισαγωγή των μαθητών στην τάξη και την αποχώρησή του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ξεκίνημα της ημέρ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άδεια για αποχώρηση από 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στροφή σ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χώρηση στο τέλος της ημέρας.</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ις ομαδικές εργασίε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ετοιμασία της τάξη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ινητικότητα των μαθητώ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κατά τη διάρκεια της εργασί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εκτός ομάδ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για εργασία.</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6640"/>
            <a:ext cx="8229600" cy="4670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Κανόνας με εξήγηση</a:t>
            </a:r>
            <a:r>
              <a:rPr b="0" lang="en-US" sz="3200" spc="-1" strike="noStrike">
                <a:solidFill>
                  <a:srgbClr val="000000"/>
                </a:solidFill>
                <a:latin typeface="Arial"/>
              </a:rPr>
              <a:t>: </a:t>
            </a:r>
            <a:r>
              <a:rPr b="0" lang="el-GR" sz="3200" spc="-1" strike="noStrike">
                <a:solidFill>
                  <a:srgbClr val="000000"/>
                </a:solidFill>
                <a:latin typeface="Arial"/>
              </a:rPr>
              <a:t>« Δεν πρέπει να σπρώχνετε  ο ένας τον άλλον, γιατί αν κάποιος πέσει μπορεί να χτυπήσει άσχη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Γενική ερώτηση</a:t>
            </a:r>
            <a:r>
              <a:rPr b="1" i="1" lang="en-US" sz="3200" spc="-1" strike="noStrike">
                <a:solidFill>
                  <a:srgbClr val="000000"/>
                </a:solidFill>
                <a:latin typeface="Arial"/>
              </a:rPr>
              <a:t>:</a:t>
            </a:r>
            <a:r>
              <a:rPr b="0" lang="en-US" sz="3200" spc="-1" strike="noStrike">
                <a:solidFill>
                  <a:srgbClr val="000000"/>
                </a:solidFill>
                <a:latin typeface="Arial"/>
              </a:rPr>
              <a:t> </a:t>
            </a:r>
            <a:r>
              <a:rPr b="0" lang="el-GR" sz="3200" spc="-1" strike="noStrike">
                <a:solidFill>
                  <a:srgbClr val="000000"/>
                </a:solidFill>
                <a:latin typeface="Arial"/>
              </a:rPr>
              <a:t>«Τι μπορούμε να κάνουμε για να πάρουμε μεγαλύτερους βαθμούς στο επόμενο διαγώνισ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91520" cy="5975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Ειδική ερώτη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τι θα συνέβαινε αν το κάθε παιδί καθόταν κάθε μέρα και σε διαφορετική θέση;»</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Περιστασιακός κανόνας</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Ακόμα δεν άρχισες να γράφεις;’ ‘Δεν καταλαβαίνω τι πρέπει να κάνω.’ ‘Αν δεν καταλαβαίνεις κάτι, θα πρέπει να σηκώσεις το χέρι σου και όχι να κάθεσαι και να περιμένεις να έρθω εγώ να σου εξηγήσω.»</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Διαπραγμάτευ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Σας επέτρεψα να μιλάτε μεταξύ σας όσο κάνετε την εργασίας σας, αλλά κάνετε πλέον υπερβολικό θόρυβο. Ας συζητήσουμε λοιπόν για λίγο τι μπορούμε να κάνουμε για ν’ αλλάξουμε αυτήν την κατάσταση.»</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Αυτοέλεγχος</a:t>
            </a:r>
            <a:r>
              <a:rPr b="1" i="1" lang="en-US" sz="3200" spc="-1" strike="noStrike">
                <a:solidFill>
                  <a:srgbClr val="000000"/>
                </a:solidFill>
                <a:latin typeface="Arial"/>
              </a:rPr>
              <a:t>:</a:t>
            </a:r>
            <a:r>
              <a:rPr b="0" lang="el-GR" sz="3200" spc="-1" strike="noStrike">
                <a:solidFill>
                  <a:srgbClr val="000000"/>
                </a:solidFill>
                <a:latin typeface="Arial"/>
              </a:rPr>
              <a:t> «Θα πρέπει να παίρνετε οι ίδιοι όλο και περισσότερες αποφάσεις καθώς μεγαλώνετε. Για να δούμε λοιπόν πόσο καλά μπορείτε να ελέγχετε την πορεία της εργασίας σας χωρίς να έχετε εμένα συνεχώς πάνω από το κεφάλι σ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Ά</a:t>
            </a:r>
            <a:r>
              <a:rPr b="0" lang="el-GR" sz="4400" spc="-1" strike="noStrike">
                <a:solidFill>
                  <a:srgbClr val="000000"/>
                </a:solidFill>
                <a:latin typeface="Arial"/>
              </a:rPr>
              <a:t>σκηση</a:t>
            </a:r>
            <a:endParaRPr b="0" lang="en-US" sz="4400" spc="-1" strike="noStrike">
              <a:solidFill>
                <a:srgbClr val="000000"/>
              </a:solidFill>
              <a:latin typeface="Arial"/>
            </a:endParaRPr>
          </a:p>
        </p:txBody>
      </p:sp>
      <p:sp>
        <p:nvSpPr>
          <p:cNvPr id="129" name=""/>
          <p:cNvSpPr txBox="1"/>
          <p:nvPr/>
        </p:nvSpPr>
        <p:spPr>
          <a:xfrm>
            <a:off x="457200" y="1699920"/>
            <a:ext cx="8229600" cy="4167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Ποιες είναι οι </a:t>
            </a:r>
            <a:r>
              <a:rPr b="0" lang="en-CA" sz="3200" spc="-1" strike="noStrike">
                <a:solidFill>
                  <a:srgbClr val="000000"/>
                </a:solidFill>
                <a:latin typeface="Arial"/>
                <a:ea typeface="Times New Roman"/>
              </a:rPr>
              <a:t>“</a:t>
            </a:r>
            <a:r>
              <a:rPr b="0" i="1" lang="el-GR" sz="3200" spc="-1" strike="noStrike">
                <a:solidFill>
                  <a:srgbClr val="000000"/>
                </a:solidFill>
                <a:latin typeface="Arial"/>
                <a:ea typeface="Times New Roman"/>
              </a:rPr>
              <a:t>κόκκινες γραμμές σας</a:t>
            </a:r>
            <a:r>
              <a:rPr b="0" lang="en-CA" sz="3200" spc="-1" strike="noStrike">
                <a:solidFill>
                  <a:srgbClr val="000000"/>
                </a:solidFill>
                <a:latin typeface="Arial"/>
                <a:ea typeface="Times New Roman"/>
              </a:rPr>
              <a:t>”</a:t>
            </a:r>
            <a:r>
              <a:rPr b="0" lang="el-GR" sz="3200" spc="-1" strike="noStrike">
                <a:solidFill>
                  <a:srgbClr val="000000"/>
                </a:solidFill>
                <a:latin typeface="Arial"/>
                <a:ea typeface="Times New Roman"/>
              </a:rPr>
              <a:t> για τη συμπεριφορά των μαθητών μέσα στην τάξ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δεν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αγνοεί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αινείτ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62064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νόνες και διαπροσωπικές σχέσεις</a:t>
            </a:r>
            <a:endParaRPr b="0" lang="en-US" sz="3200" spc="-1" strike="noStrike">
              <a:solidFill>
                <a:srgbClr val="000000"/>
              </a:solidFill>
              <a:latin typeface="Arial"/>
            </a:endParaRPr>
          </a:p>
        </p:txBody>
      </p:sp>
      <p:sp>
        <p:nvSpPr>
          <p:cNvPr id="131" name="PlaceHolder 2"/>
          <p:cNvSpPr>
            <a:spLocks noGrp="1"/>
          </p:cNvSpPr>
          <p:nvPr>
            <p:ph/>
          </p:nvPr>
        </p:nvSpPr>
        <p:spPr>
          <a:xfrm>
            <a:off x="457200" y="1844640"/>
            <a:ext cx="8229600" cy="4022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θέσπιση κανόνων συνδέεται στενά με τις σχέσεις του εκπαιδευτικού με τους μαθητές, αλλά και των μαθητών μεταξύ τους.</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t>
            </a:r>
            <a:r>
              <a:rPr b="0" lang="el-GR" sz="3200" spc="-1" strike="noStrike">
                <a:solidFill>
                  <a:srgbClr val="000000"/>
                </a:solidFill>
                <a:latin typeface="Arial"/>
              </a:rPr>
              <a:t>Όταν οι ίδιοι οι εκπαιδευτικοί δεν είναι συνεπείς, τότε προκαλείται σύγχυση στους μαθητέ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33300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Έπαινοι και ποινές</a:t>
            </a:r>
            <a:endParaRPr b="0" lang="en-US" sz="3600" spc="-1" strike="noStrike">
              <a:solidFill>
                <a:srgbClr val="000000"/>
              </a:solidFill>
              <a:latin typeface="Arial"/>
            </a:endParaRPr>
          </a:p>
        </p:txBody>
      </p:sp>
      <p:sp>
        <p:nvSpPr>
          <p:cNvPr id="133" name="PlaceHolder 2"/>
          <p:cNvSpPr>
            <a:spLocks noGrp="1"/>
          </p:cNvSpPr>
          <p:nvPr>
            <p:ph/>
          </p:nvPr>
        </p:nvSpPr>
        <p:spPr>
          <a:xfrm>
            <a:off x="457200" y="1413000"/>
            <a:ext cx="8229600" cy="4752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οινές πρέπει να είναι</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Ήπιες</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μην επιβάλλονται με κακή προαίρεσ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μέσα στα πλαίσια συμμόρφωσης με τους κανόνες του σχολείου.</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παρόμοιες με αυτές που θα επέβαλλαν οι ίδιοι οι γονείς ή που θα περίμενε να υποστεί ένα παιδί που έκανε κάτι κακ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80640"/>
            <a:ext cx="8229600" cy="488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έπαινοι μπορεί να είναι</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ξωγενείς</a:t>
            </a:r>
            <a:r>
              <a:rPr b="0" lang="el-GR" sz="3200" spc="-1" strike="noStrike">
                <a:solidFill>
                  <a:srgbClr val="000000"/>
                </a:solidFill>
                <a:latin typeface="Arial"/>
              </a:rPr>
              <a:t> (βραβεία, προνόμια, οτιδήποτε προσφέρεται)</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νδογενείς</a:t>
            </a:r>
            <a:r>
              <a:rPr b="0" lang="el-GR" sz="3200" spc="-1" strike="noStrike">
                <a:solidFill>
                  <a:srgbClr val="000000"/>
                </a:solidFill>
                <a:latin typeface="Arial"/>
              </a:rPr>
              <a:t> (η ικανοποίηση της περιέργειας, η περηφάνεια για μια καλή εργασία, οτιδήποτε προέρχεται από το ίδιο το άτομο)</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i="1" lang="el-GR" sz="3200" spc="-1" strike="noStrike">
                <a:solidFill>
                  <a:srgbClr val="000000"/>
                </a:solidFill>
                <a:latin typeface="Arial"/>
              </a:rPr>
              <a:t>Πώς πρέπει να διαπραγματεύεται ο εκπαιδευτικός το θέμα των επαίνων και των ποιν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91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Δραστηριότητα παρατήρησης</a:t>
            </a:r>
            <a:endParaRPr b="0" lang="en-US" sz="3600" spc="-1" strike="noStrike">
              <a:solidFill>
                <a:srgbClr val="000000"/>
              </a:solidFill>
              <a:latin typeface="Arial"/>
            </a:endParaRPr>
          </a:p>
        </p:txBody>
      </p:sp>
      <p:sp>
        <p:nvSpPr>
          <p:cNvPr id="136" name="PlaceHolder 2"/>
          <p:cNvSpPr>
            <a:spLocks noGrp="1"/>
          </p:cNvSpPr>
          <p:nvPr>
            <p:ph/>
          </p:nvPr>
        </p:nvSpPr>
        <p:spPr>
          <a:xfrm>
            <a:off x="468000" y="1628280"/>
            <a:ext cx="8280360" cy="4537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τηρήστε πώς και πότε δίνονται οι έπαινοι και επιβάλλονται οι τιμωρίες στο σχολείο σας. Να λάβετε υπόψη σας και τους υπολανθάνοντες επαίνους ή ποινές (κάποιο χαμόγελο, μια παρατήρηση, την εφαρμογή μιας ιδέας, κάποιο αρνητικό σχόλιο, την τιμωρία, την αδιαφορία, την αναγνώριση της προσπάθειας ενός παιδιού, την αφαίρεση προνομίων κλ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26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09" name="PlaceHolder 2"/>
          <p:cNvSpPr>
            <a:spLocks noGrp="1"/>
          </p:cNvSpPr>
          <p:nvPr>
            <p:ph/>
          </p:nvPr>
        </p:nvSpPr>
        <p:spPr>
          <a:xfrm>
            <a:off x="457200" y="2130480"/>
            <a:ext cx="8229600" cy="37368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τους πι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λιγότερ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Είδη κανόνων</a:t>
            </a:r>
            <a:endParaRPr b="0" lang="en-US" sz="3600" spc="-1" strike="noStrike">
              <a:solidFill>
                <a:srgbClr val="000000"/>
              </a:solidFill>
              <a:latin typeface="Arial"/>
            </a:endParaRPr>
          </a:p>
        </p:txBody>
      </p:sp>
      <p:sp>
        <p:nvSpPr>
          <p:cNvPr id="111" name="PlaceHolder 2"/>
          <p:cNvSpPr>
            <a:spLocks noGrp="1"/>
          </p:cNvSpPr>
          <p:nvPr>
            <p:ph/>
          </p:nvPr>
        </p:nvSpPr>
        <p:spPr>
          <a:xfrm>
            <a:off x="395280" y="1557360"/>
            <a:ext cx="8353440" cy="468000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επιβάλλονται από το νόμο </a:t>
            </a:r>
            <a:r>
              <a:rPr b="0" lang="el-GR" sz="2800" spc="-1" strike="noStrike">
                <a:solidFill>
                  <a:srgbClr val="000000"/>
                </a:solidFill>
                <a:latin typeface="Arial"/>
              </a:rPr>
              <a:t>(π.χ. δικαιώματα των γονέων, χρόνος υποχρεωτικής εκπαίδευσης, διαδικασία επιβολής ποινώ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του σχολείου </a:t>
            </a:r>
            <a:r>
              <a:rPr b="0" lang="el-GR" sz="2800" spc="-1" strike="noStrike">
                <a:solidFill>
                  <a:srgbClr val="000000"/>
                </a:solidFill>
                <a:latin typeface="Arial"/>
              </a:rPr>
              <a:t>(π.χ. συμπεριφορά των μαθητών στο προαύλιο, η χρήση σχολικών εγκαταστάσεω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θέτουν οι εκπαιδευτικοί </a:t>
            </a:r>
            <a:r>
              <a:rPr b="0" lang="el-GR" sz="2800" spc="-1" strike="noStrike">
                <a:solidFill>
                  <a:srgbClr val="000000"/>
                </a:solidFill>
                <a:latin typeface="Arial"/>
              </a:rPr>
              <a:t>(π.χ. η συμπεριφορά των μαθητών μέσα στην τάξη, η αντιμετώπιση παραβατικών συμπεριφορών, η πορεία του μαθήματος)</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δείγματα κανόνων</a:t>
            </a:r>
            <a:endParaRPr b="0" lang="en-US" sz="3200" spc="-1" strike="noStrike">
              <a:solidFill>
                <a:srgbClr val="000000"/>
              </a:solidFill>
              <a:latin typeface="Arial"/>
            </a:endParaRPr>
          </a:p>
        </p:txBody>
      </p:sp>
      <p:sp>
        <p:nvSpPr>
          <p:cNvPr id="113"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Α</a:t>
            </a:r>
            <a:r>
              <a:rPr b="0" lang="en-US" sz="2400" spc="-1" strike="noStrike">
                <a:solidFill>
                  <a:srgbClr val="000000"/>
                </a:solidFill>
                <a:latin typeface="Arial"/>
              </a:rPr>
              <a:t>: </a:t>
            </a:r>
            <a:r>
              <a:rPr b="1" i="1" lang="el-GR" sz="2400" spc="-1" strike="noStrike">
                <a:solidFill>
                  <a:srgbClr val="000000"/>
                </a:solidFill>
                <a:latin typeface="Arial"/>
              </a:rPr>
              <a:t>«Να θυμάστε ότι όταν θέλετε να πείτε κάτι μέσα στην τάξη, θα πρέπει να σηκώνετε το χέρι σας. Δε θέλω να ακούσω κανέναν να μιλάει χωρίς προηγουμένως να έχει σηκώσει το χέρι του. Όταν φωνάζετε όλοι μαζί, δεν ακούγεται τελικά κανένας.»</a:t>
            </a:r>
            <a:r>
              <a:rPr b="0" lang="el-GR" sz="2400" spc="-1" strike="noStrike">
                <a:solidFill>
                  <a:srgbClr val="000000"/>
                </a:solidFill>
                <a:latin typeface="Arial"/>
              </a:rPr>
              <a:t> (στην αρχή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Β</a:t>
            </a:r>
            <a:r>
              <a:rPr b="0" lang="en-US" sz="2400" spc="-1" strike="noStrike">
                <a:solidFill>
                  <a:srgbClr val="000000"/>
                </a:solidFill>
                <a:latin typeface="Arial"/>
              </a:rPr>
              <a:t>: </a:t>
            </a:r>
            <a:r>
              <a:rPr b="1" i="1" lang="el-GR" sz="2400" spc="-1" strike="noStrike">
                <a:solidFill>
                  <a:srgbClr val="000000"/>
                </a:solidFill>
                <a:latin typeface="Arial"/>
              </a:rPr>
              <a:t>«Τι κάνουμε πάντα όταν θέλουμε να πάρουμε το λόγο;»</a:t>
            </a:r>
            <a:r>
              <a:rPr b="0" i="1" lang="el-GR" sz="2400" spc="-1" strike="noStrike">
                <a:solidFill>
                  <a:srgbClr val="000000"/>
                </a:solidFill>
                <a:latin typeface="Arial"/>
              </a:rPr>
              <a:t> </a:t>
            </a:r>
            <a:r>
              <a:rPr b="0" lang="el-GR" sz="2400" spc="-1" strike="noStrike">
                <a:solidFill>
                  <a:srgbClr val="000000"/>
                </a:solidFill>
                <a:latin typeface="Arial"/>
              </a:rPr>
              <a:t>(την πρώτη μέρα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Γ</a:t>
            </a:r>
            <a:r>
              <a:rPr b="0" lang="en-US" sz="2400" spc="-1" strike="noStrike">
                <a:solidFill>
                  <a:srgbClr val="000000"/>
                </a:solidFill>
                <a:latin typeface="Arial"/>
              </a:rPr>
              <a:t>: </a:t>
            </a:r>
            <a:r>
              <a:rPr b="1" i="1" lang="el-GR" sz="2400" spc="-1" strike="noStrike">
                <a:solidFill>
                  <a:srgbClr val="000000"/>
                </a:solidFill>
                <a:latin typeface="Arial"/>
              </a:rPr>
              <a:t>«Βλέπω ότι φωνάζετε συνέχεια ‘Κυρία, κυρία’ χωρίς να σηκώνετε χέρι. Για να δω τα χεράκια σηκωμένα και μετά θα αποφασίσω ποιος θα μιλήσει.»</a:t>
            </a:r>
            <a:r>
              <a:rPr b="0" lang="el-GR" sz="2400" spc="-1" strike="noStrike">
                <a:solidFill>
                  <a:srgbClr val="000000"/>
                </a:solidFill>
                <a:latin typeface="Arial"/>
              </a:rPr>
              <a:t> (δεύτερη μέρα μαθημάτω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ατηγοριοποίηση κανόνων</a:t>
            </a:r>
            <a:endParaRPr b="0" lang="en-US" sz="3600" spc="-1" strike="noStrike">
              <a:solidFill>
                <a:srgbClr val="000000"/>
              </a:solidFill>
              <a:latin typeface="Arial"/>
            </a:endParaRPr>
          </a:p>
        </p:txBody>
      </p:sp>
      <p:sp>
        <p:nvSpPr>
          <p:cNvPr id="115" name="PlaceHolder 2"/>
          <p:cNvSpPr>
            <a:spLocks noGrp="1"/>
          </p:cNvSpPr>
          <p:nvPr>
            <p:ph/>
          </p:nvPr>
        </p:nvSpPr>
        <p:spPr>
          <a:xfrm>
            <a:off x="826560" y="2314080"/>
            <a:ext cx="7859880" cy="355284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ίνησ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ιλί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ργασία μέσα στην τάξ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ώρο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άλει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και μέσα διδασκαλία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ινωνική συμπεριφορά</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βάση τις προηγούμενες κατηγορίες κανόνων προσπάθησε να εντάξεις τους κανόνες που έγραψες προηγουμένως σε κάποιες από τις κατηγορίες αυτές.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την ομάδα, συντάξετε μια λίστα με τους κοινούς κανόνες και τις κατηγορίες στις οποίες ανήκουν. Κατόπιν επιλέξτε 3 κανόνες που θεωρείτε τους πιο σημαντικούς και συζητήστε πώς α) θα τους εφαρμόζατε στην τάξη σας και β) τι θα κάνατε όταν οι μαθητές τους παραβίαζα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υτοέλεγχος και διαπραγμάτευση</a:t>
            </a:r>
            <a:endParaRPr b="0" lang="en-US" sz="3600" spc="-1" strike="noStrike">
              <a:solidFill>
                <a:srgbClr val="000000"/>
              </a:solidFill>
              <a:latin typeface="Arial"/>
            </a:endParaRPr>
          </a:p>
        </p:txBody>
      </p:sp>
      <p:sp>
        <p:nvSpPr>
          <p:cNvPr id="119"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ρευνες έχουν δείξει ότι τα προβλήματα διαχείρισης της τάξης μειώνονται αν τα παιδιά καταλάβουν γιατί πρέπει να εφαρμόζονται κάποιοι κανόνες ή αν ενημερωθούν για το είδος της συμπεριφοράς που είναι αποδεκτό.</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εκπαιδευτικός οφείλει να εξηγήσει στα παιδιά ποιους κανόνες θεωρεί ο ίδιος απαραίτητους, αλλά να δίνει και στα παιδιά τη δυνατότητα να προτείνουν κάποιους καινούργιους ή να κάνουν τροποποιήσεις των ήδη υπαρχόντων.</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ίναι τελικά διαπραγματεύσιμο;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είναι απαραίτητο να συνειδητοποιήσουν την ανάγκη ύπαρξης κανόνων.</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πρέπει να έρθουν αντιμέτωπα με θέματα όπως η αυτοπειθαρχία, ο αυτοέλεγχος, ο αλληλοσεβασμός.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ην τελική ευθύνη για τους κανόνες την έχουν οι εκπαιδευτικο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93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Τρόποι καθιέρωσης κανόνων</a:t>
            </a:r>
            <a:endParaRPr b="0" lang="en-US" sz="3600" spc="-1" strike="noStrike">
              <a:solidFill>
                <a:srgbClr val="000000"/>
              </a:solidFill>
              <a:latin typeface="Arial"/>
            </a:endParaRPr>
          </a:p>
        </p:txBody>
      </p:sp>
      <p:sp>
        <p:nvSpPr>
          <p:cNvPr id="122" name="PlaceHolder 2"/>
          <p:cNvSpPr>
            <a:spLocks noGrp="1"/>
          </p:cNvSpPr>
          <p:nvPr>
            <p:ph/>
          </p:nvPr>
        </p:nvSpPr>
        <p:spPr>
          <a:xfrm>
            <a:off x="457200" y="1268280"/>
            <a:ext cx="8229600" cy="485784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Γενικοί κανόνες</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βασμός και ευγενική συμπεριφορά προς όλους.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γρήγορση και προετοιμασία για αποτελεσματική διδασκαλία (αφορά τον εκπαιδευτικό).</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φεύγουμε να μιλάμε ο ένας πάνω στον άλλο (ενίσχυση της ικανότητας παρακολούθησης του ομιλητή και ανάληψη του λόγου μετά το τέλος της ομιλίας).</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ακοή όλων των κανόνων που έχει το σχολείο και η τάξη.</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μαθητών στο προαύλιο.</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9:02:25Z</dcterms:created>
  <dc:creator>1</dc:creator>
  <dc:description/>
  <dc:language>en-US</dc:language>
  <cp:lastModifiedBy>Angeliki Lazaridou</cp:lastModifiedBy>
  <dcterms:modified xsi:type="dcterms:W3CDTF">2024-04-08T05:06:02Z</dcterms:modified>
  <cp:revision>33</cp:revision>
  <dc:subject/>
  <dc:title>Διαχείριση της σχολικής τάξης</dc:title>
</cp:coreProperties>
</file>